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7ABED-170F-42A3-8CF1-5C53F145B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2A20C-C9E4-4E1C-A4FC-60C67360C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588BC-0156-4EF1-838E-1BFDD1F15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F999C-344B-4340-AE1F-9D82F6570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316B2-5A20-41D4-93C7-EB4EAB84F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4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26CFF-57FE-46C0-B884-44544C523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17224-28E1-4451-A5EB-C0290DE7D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F0FAC-70AF-43DA-A057-1FB60AB5F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030EF-3C97-4AC1-94E8-0B4B99D77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37BAB-FAE0-4865-A71D-47819BF22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C4FD5-14F8-471F-905C-BFCBA3E3E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331A-A365-44BB-AA70-BF9A2FDE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74DC8-E56F-4515-B697-28646C87D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F384-7343-4E03-8FDB-FEFDF8A3F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17B7B-6446-4916-B0DE-43C64B3CF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C0137-9018-4192-8F91-A913B4E1E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04DFB-B514-4CCE-9F20-7663FA331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3EF17F-89A8-454F-B9F7-DDCFB2E327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261CA-8DB4-4D09-A747-99ED9758D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9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124E5-D69A-465B-8B55-7FB33B834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9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FAF7F-D44D-4F91-A243-EBBF8A071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8064B-3264-44C8-9B97-49C05BCD9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4CBC1-5D3B-4121-A1E6-5A444693A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1CE82-40BA-4D7C-B638-ECA1EC650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9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134CC-F2F6-4C17-A75A-35B210717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40C42-C132-4796-96D4-C07325520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5F7A6-563D-45E6-ADB6-175B164EC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3AAD0-1FE1-4AC9-995E-61C851949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1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0FE98B-B51B-419C-BA06-46D227B14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1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5C7DF-119D-4E01-99B9-44C6D77DA2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F792D5-B05D-49C2-8906-250E4C4FA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B2CD6-C547-4D1F-9BA5-59B97AABBC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0A2FF-9717-4842-8C58-FB2ABA819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81634-2FD3-4D72-8DBD-BDB88AD36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3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FCF4E-5B5F-4682-932A-8C7CC55E9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3F135-AD96-4D3B-83B1-77CD60C22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190B1-3926-420C-9A5A-0D757CDB9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3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67CF3-EE42-446D-A517-9C8C3B557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17AD7-6CC6-4334-83AC-0FC5FCD87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A9EE9-C586-4281-82F9-B97A3B1C8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A3990-7C9E-4719-B37B-0A42AEA7E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630CA-D4C6-46EC-95F1-36F05145C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2D65B5-319E-48E2-8528-42002080E1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8B1A91-0B9E-4A52-B58C-7D42BDC96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6CB4C-1289-4594-97E8-C1789EBFF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6D0721-CB42-4DFD-BA95-5F2AC4152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C2BED-0E3A-4725-8D39-0A3F4B41C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C2425-69F4-4D4D-BA28-2C69D5B14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4C6E7A-65D0-4D2E-8A77-FD8FE948E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7F309-1EBA-46E7-AE53-0A72F22B9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97D95-AC3D-4E30-AA05-43A75A5E1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8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5455D-E067-445A-A1AC-A517B68D5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8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CFA50-3865-4A5E-A2C0-C5AFF06DB6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53C37-55F1-42BE-8ADE-9BC93289D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45EAC4-BA6A-4305-BBBD-AE43B85370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DC7B4-4EF3-4088-B39A-7634C68CD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7135B5-A550-4B57-BE98-C93DCC652D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2DAEF8-B60F-4807-8B23-8918850FB0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1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1684D3-A9FF-47ED-B562-F0B527DDB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F7CC58-C1CF-4E02-892E-A08B696244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1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A2A9E-1A11-46DF-97B6-231BBF0144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419FD-3E1C-429C-9478-6AC81EEF9F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21150-C606-472E-89E9-F5B5B65FE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2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D2312E-066C-441B-9B89-5B6B2FC16C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2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CB0EF-18FD-498B-B0C5-F1CFD60CB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89E98-3279-4F2A-8B4E-EE5B1AA41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2631-532D-4197-955A-E01F4478B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2F5C3-4D70-43C0-B719-F35AA4A28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474345-B01F-46BD-A76F-61569BB668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4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F1F21E-52FD-476F-936A-59FEDB94E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314D1D-596E-4FCF-8359-6C6A243436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761836-6593-4962-A533-EE056C0F2F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DC493-D948-494A-B062-1C4EEF999B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F3B812-B951-4730-9171-EC9D7C7F3A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505C20-22DC-4012-93BD-FD26A710E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43545C-385D-4D4A-8B32-6EF300DC3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EF9DD-0675-46F3-9627-DA04C561E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0ED3-E4C5-4FE4-8310-AC7DD452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2263C-84FB-4BBD-AB23-B0142FE84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8F519-E32D-4E6F-9A87-3C1D33F88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8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3E935B-5DF0-4574-B1CA-BCA9F31B1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8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3A28F-6657-4A79-9D21-39DBC2D83B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8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FD12A6-52BF-499A-9528-3872F17110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BC26-4665-4D3B-9195-22D14B9C7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D982-B305-4260-9ADD-A24130CA8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2130120"/>
            <a:ext cx="6477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C09D-8251-414A-8B22-5C892EF7F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3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8906-3D47-4C3B-84B6-25A306930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67D9-9E6C-41E9-BC18-71304C897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4D7A-963A-4596-BAAD-385A1EA54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rcRect l="0" t="0" r="0" b="5335"/>
          <a:stretch/>
        </p:blipFill>
        <p:spPr>
          <a:xfrm>
            <a:off x="0" y="50760"/>
            <a:ext cx="1181160" cy="4057560"/>
          </a:xfrm>
          <a:prstGeom prst="rect">
            <a:avLst/>
          </a:prstGeom>
          <a:ln w="0">
            <a:noFill/>
          </a:ln>
        </p:spPr>
      </p:pic>
      <p:pic>
        <p:nvPicPr>
          <p:cNvPr id="208" name="" descr=""/>
          <p:cNvPicPr/>
          <p:nvPr/>
        </p:nvPicPr>
        <p:blipFill>
          <a:blip r:embed="rId3"/>
          <a:srcRect l="0" t="40000" r="0" b="0"/>
          <a:stretch/>
        </p:blipFill>
        <p:spPr>
          <a:xfrm>
            <a:off x="0" y="4222800"/>
            <a:ext cx="1181160" cy="2571840"/>
          </a:xfrm>
          <a:prstGeom prst="rect">
            <a:avLst/>
          </a:prstGeom>
          <a:ln w="0">
            <a:noFill/>
          </a:ln>
        </p:spPr>
      </p:pic>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21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11" name="PlaceHolder 3"/>
          <p:cNvSpPr>
            <a:spLocks noGrp="1"/>
          </p:cNvSpPr>
          <p:nvPr>
            <p:ph type="dt" idx="16"/>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4"/>
          <p:cNvSpPr>
            <a:spLocks noGrp="1"/>
          </p:cNvSpPr>
          <p:nvPr>
            <p:ph type="ftr" idx="17"/>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5"/>
          <p:cNvSpPr>
            <a:spLocks noGrp="1"/>
          </p:cNvSpPr>
          <p:nvPr>
            <p:ph type="sldNum" idx="18"/>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A1E2-7E2A-4822-9EFA-D653C2DA1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 descr=""/>
          <p:cNvPicPr/>
          <p:nvPr/>
        </p:nvPicPr>
        <p:blipFill>
          <a:blip r:embed="rId3"/>
          <a:stretch/>
        </p:blipFill>
        <p:spPr>
          <a:xfrm>
            <a:off x="0" y="50760"/>
            <a:ext cx="1181160" cy="4286160"/>
          </a:xfrm>
          <a:prstGeom prst="rect">
            <a:avLst/>
          </a:prstGeom>
          <a:ln w="0">
            <a:noFill/>
          </a:ln>
        </p:spPr>
      </p:pic>
      <p:sp>
        <p:nvSpPr>
          <p:cNvPr id="25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 descr=""/>
          <p:cNvPicPr/>
          <p:nvPr/>
        </p:nvPicPr>
        <p:blipFill>
          <a:blip r:embed="rId5"/>
          <a:srcRect l="0" t="40000" r="0" b="0"/>
          <a:stretch/>
        </p:blipFill>
        <p:spPr>
          <a:xfrm>
            <a:off x="0" y="4222800"/>
            <a:ext cx="1181160" cy="2571840"/>
          </a:xfrm>
          <a:prstGeom prst="rect">
            <a:avLst/>
          </a:prstGeom>
          <a:ln w="0">
            <a:noFill/>
          </a:ln>
        </p:spPr>
      </p:pic>
      <p:sp>
        <p:nvSpPr>
          <p:cNvPr id="25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255" name="PlaceHolder 2"/>
          <p:cNvSpPr>
            <a:spLocks noGrp="1"/>
          </p:cNvSpPr>
          <p:nvPr>
            <p:ph type="dt" idx="19"/>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20"/>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21"/>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6D50-60E3-40CA-B967-957AD160A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447560" y="1066680"/>
            <a:ext cx="647676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The Healthy World Of Diet</a:t>
            </a:r>
            <a:endParaRPr b="0" lang="en-US" sz="4400" spc="-1" strike="noStrike">
              <a:solidFill>
                <a:srgbClr val="000000"/>
              </a:solidFill>
              <a:latin typeface="Arial"/>
            </a:endParaRPr>
          </a:p>
        </p:txBody>
      </p:sp>
      <p:sp>
        <p:nvSpPr>
          <p:cNvPr id="296"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Portfolio Presentati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vin Ray B. Toliner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 Ed A. Mul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9320" y="837720"/>
            <a:ext cx="67816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stellar"/>
              </a:rPr>
              <a:t>Unit Summary</a:t>
            </a:r>
            <a:endParaRPr b="0" lang="en-US" sz="4400" spc="-1" strike="noStrike">
              <a:solidFill>
                <a:srgbClr val="000000"/>
              </a:solidFill>
              <a:latin typeface="Arial"/>
            </a:endParaRPr>
          </a:p>
        </p:txBody>
      </p:sp>
      <p:sp>
        <p:nvSpPr>
          <p:cNvPr id="298" name="PlaceHolder 2"/>
          <p:cNvSpPr>
            <a:spLocks noGrp="1"/>
          </p:cNvSpPr>
          <p:nvPr>
            <p:ph type="subTitle"/>
          </p:nvPr>
        </p:nvSpPr>
        <p:spPr>
          <a:xfrm>
            <a:off x="1066680" y="2361960"/>
            <a:ext cx="7010640" cy="38098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he pupils would understand the proper way of balance diet. Knowing how important the leafy vegetables and savory fruits into our way of living. Lastly, learning the balance diet which is composed of the 3 G’s. Namely, Go, Grow and Glow.</a:t>
            </a:r>
            <a:r>
              <a:rPr b="0" lang="en-US" sz="2800" spc="-1" strike="noStrike">
                <a:solidFill>
                  <a:srgbClr val="000000"/>
                </a:solidFill>
                <a:latin typeface="Arial Black"/>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76212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stellar"/>
              </a:rPr>
              <a:t>CFQ’s</a:t>
            </a:r>
            <a:endParaRPr b="0" lang="en-US" sz="4400" spc="-1" strike="noStrike">
              <a:solidFill>
                <a:srgbClr val="000000"/>
              </a:solidFill>
              <a:latin typeface="Arial"/>
            </a:endParaRPr>
          </a:p>
        </p:txBody>
      </p:sp>
      <p:sp>
        <p:nvSpPr>
          <p:cNvPr id="300" name="PlaceHolder 2"/>
          <p:cNvSpPr>
            <a:spLocks noGrp="1"/>
          </p:cNvSpPr>
          <p:nvPr>
            <p:ph type="subTitle"/>
          </p:nvPr>
        </p:nvSpPr>
        <p:spPr>
          <a:xfrm>
            <a:off x="990720" y="1904760"/>
            <a:ext cx="716256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sential Question:</a:t>
            </a:r>
            <a:endParaRPr b="0" lang="en-US" sz="3200" spc="-1" strike="noStrike">
              <a:solidFill>
                <a:srgbClr val="000000"/>
              </a:solidFill>
              <a:latin typeface="Arial"/>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ow do vegetables benefit our body?</a:t>
            </a:r>
            <a:endParaRPr b="0" lang="en-US" sz="2000" spc="-1" strike="noStrike">
              <a:solidFill>
                <a:srgbClr val="000000"/>
              </a:solidFill>
              <a:latin typeface="Arial"/>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kind of foods do you like to ea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 Question:</a:t>
            </a:r>
            <a:endParaRPr b="0" lang="en-US" sz="3200" spc="-1" strike="noStrike">
              <a:solidFill>
                <a:srgbClr val="000000"/>
              </a:solidFill>
              <a:latin typeface="Arial"/>
            </a:endParaRPr>
          </a:p>
          <a:p>
            <a:pP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it been true that vegetables can keep our body strong and healthy?</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 Question:</a:t>
            </a:r>
            <a:endParaRPr b="0" lang="en-US" sz="3200" spc="-1" strike="noStrike">
              <a:solidFill>
                <a:srgbClr val="000000"/>
              </a:solidFill>
              <a:latin typeface="Arial"/>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Go, Grow and Glow Foods?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8377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pperplate Gothic Bold"/>
              </a:rPr>
              <a:t>Vision for Unit</a:t>
            </a:r>
            <a:endParaRPr b="0" lang="en-US" sz="4400" spc="-1" strike="noStrike">
              <a:solidFill>
                <a:srgbClr val="221304"/>
              </a:solidFill>
              <a:latin typeface="Verdana"/>
            </a:endParaRPr>
          </a:p>
        </p:txBody>
      </p:sp>
      <p:sp>
        <p:nvSpPr>
          <p:cNvPr id="302" name="PlaceHolder 2"/>
          <p:cNvSpPr>
            <a:spLocks noGrp="1"/>
          </p:cNvSpPr>
          <p:nvPr>
            <p:ph type="subTitle"/>
          </p:nvPr>
        </p:nvSpPr>
        <p:spPr>
          <a:xfrm>
            <a:off x="1143000" y="2362320"/>
            <a:ext cx="7391520" cy="3657600"/>
          </a:xfrm>
          <a:prstGeom prst="rect">
            <a:avLst/>
          </a:prstGeom>
          <a:noFill/>
          <a:ln w="0">
            <a:noFill/>
          </a:ln>
        </p:spPr>
        <p:txBody>
          <a:bodyPr lIns="90000" rIns="90000" tIns="46800" bIns="46800"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During this unit, I want my students to</a:t>
            </a:r>
            <a:endParaRPr b="0" lang="en-US" sz="3500" spc="-1" strike="noStrike">
              <a:solidFill>
                <a:srgbClr val="000000"/>
              </a:solidFill>
              <a:latin typeface="Verdana"/>
            </a:endParaRPr>
          </a:p>
          <a:p>
            <a:pPr>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vegetables and the fruits.</a:t>
            </a:r>
            <a:r>
              <a:rPr b="0" lang="en-US" sz="3600" spc="-1" strike="noStrike">
                <a:solidFill>
                  <a:srgbClr val="000000"/>
                </a:solidFill>
                <a:latin typeface="Verdana"/>
              </a:rPr>
              <a:t> </a:t>
            </a:r>
            <a:endParaRPr b="0" lang="en-US" sz="3600" spc="-1" strike="noStrike">
              <a:solidFill>
                <a:srgbClr val="000000"/>
              </a:solidFill>
              <a:latin typeface="Verdana"/>
            </a:endParaRPr>
          </a:p>
          <a:p>
            <a:pPr>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the essence of Go, Grow and Glow Foods </a:t>
            </a:r>
            <a:endParaRPr b="0" lang="en-US" sz="2800" spc="-1" strike="noStrike">
              <a:solidFill>
                <a:srgbClr val="000000"/>
              </a:solidFill>
              <a:latin typeface="Verdana"/>
            </a:endParaRPr>
          </a:p>
          <a:p>
            <a:pPr>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fy to which food group does certain food belongs.</a:t>
            </a:r>
            <a:r>
              <a:rPr b="0" lang="en-US" sz="3600" spc="-1" strike="noStrike">
                <a:solidFill>
                  <a:srgbClr val="000000"/>
                </a:solidFill>
                <a:latin typeface="Verdana"/>
              </a:rPr>
              <a:t> </a:t>
            </a:r>
            <a:endParaRPr b="0" lang="en-US" sz="3600" spc="-1" strike="noStrike">
              <a:solidFill>
                <a:srgbClr val="000000"/>
              </a:solidFill>
              <a:latin typeface="Verdan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144000" cy="6858000"/>
          </a:xfrm>
          <a:prstGeom prst="rect">
            <a:avLst/>
          </a:prstGeom>
          <a:ln w="0">
            <a:noFill/>
          </a:ln>
        </p:spPr>
      </p:pic>
      <p:sp>
        <p:nvSpPr>
          <p:cNvPr id="304" name=""/>
          <p:cNvSpPr/>
          <p:nvPr/>
        </p:nvSpPr>
        <p:spPr>
          <a:xfrm>
            <a:off x="914400" y="22860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Elephant"/>
              </a:rPr>
              <a:t>Project Approaches</a:t>
            </a:r>
            <a:endParaRPr b="0" lang="en-US" sz="4800" spc="-1" strike="noStrike">
              <a:solidFill>
                <a:srgbClr val="000000"/>
              </a:solidFill>
              <a:latin typeface="Arial"/>
            </a:endParaRPr>
          </a:p>
        </p:txBody>
      </p:sp>
      <p:sp>
        <p:nvSpPr>
          <p:cNvPr id="305" name=""/>
          <p:cNvSpPr/>
          <p:nvPr/>
        </p:nvSpPr>
        <p:spPr>
          <a:xfrm>
            <a:off x="685800" y="1828800"/>
            <a:ext cx="7543800" cy="433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y students work on this project, they</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hance their fine motor skills ( Holding a pencil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heir Cognitive ( Identifying what kind of foods that belong to a certain category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necting ideas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ing their work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5. Give suggestions or feedbacks about their     classmates wor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p:nvPr/>
        </p:nvSpPr>
        <p:spPr>
          <a:xfrm>
            <a:off x="1981080" y="304920"/>
            <a:ext cx="5105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uging Student Needs Assessment</a:t>
            </a:r>
            <a:endParaRPr b="0" lang="en-US" sz="3200" spc="-1" strike="noStrike">
              <a:solidFill>
                <a:srgbClr val="000000"/>
              </a:solidFill>
              <a:latin typeface="Arial"/>
            </a:endParaRPr>
          </a:p>
        </p:txBody>
      </p:sp>
      <p:sp>
        <p:nvSpPr>
          <p:cNvPr id="308" name=""/>
          <p:cNvSpPr/>
          <p:nvPr/>
        </p:nvSpPr>
        <p:spPr>
          <a:xfrm>
            <a:off x="228600" y="1752480"/>
            <a:ext cx="868680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Metho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ing student work reveals the nature and extent of student understanding, clarifies learning expectations for students, and provides opportunities to assess the quality of a previously taught task or plan and the implications for instructional practice.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 organizers provide a visual representation of student’s current conceptual understanding and thinking processes and illuminate preconceptions.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storming - Students generate terms and ideas related to a topic and form creative connections between prior knowledge and new possibili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20:46:19Z</dcterms:created>
  <dc:creator>nave1386</dc:creator>
  <dc:description/>
  <dc:language>en-US</dc:language>
  <cp:lastModifiedBy>nave1386</cp:lastModifiedBy>
  <dcterms:modified xsi:type="dcterms:W3CDTF">2010-09-02T21:04:14Z</dcterms:modified>
  <cp:revision>3</cp:revision>
  <dc:subject/>
  <dc:title>The Healthy World Of Diet</dc:title>
</cp:coreProperties>
</file>